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912-498C-40B9-A53E-9117FED7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8F8-95EC-4FF6-BA08-CE0BFCC7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4F7-05F5-434D-96F8-B6FA31E1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F07-2B78-4AC4-A260-03DEBD9B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CCE-5AD9-45B3-9748-5E781368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834-81D3-4646-8FC6-BB638BBA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BCD-D9FD-491D-ADDE-A128B9FB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F14-8603-4E68-9F36-334E00BB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31E-0326-42F3-8702-2417B224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972-180B-4D63-A5F5-B4259D10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2F8-D1C8-41E6-9F5B-B84FC6CF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6CD-949F-4905-B468-A559F5CE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6D3B-7B92-4F3E-A44B-26A3B985A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41640" y="4444920"/>
            <a:ext cx="1260720" cy="157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33520"/>
            <a:ext cx="79250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More than one way to dissect an ani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6080" y="2860560"/>
            <a:ext cx="61722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864"/>
                </a:solidFill>
                <a:latin typeface="Arial"/>
              </a:rPr>
              <a:t>Melissa Hae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864"/>
                </a:solidFill>
                <a:latin typeface="Arial"/>
              </a:rPr>
              <a:t>ZFIN Scientific 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522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are the hierarchical relationships between terms affected by stage assign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460680"/>
            <a:ext cx="39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hild must exist within the stage range of its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060880"/>
            <a:ext cx="398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hild’s stage range must overlap or abut the stage range of its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38160" y="4508640"/>
            <a:ext cx="2648160" cy="459720"/>
            <a:chOff x="938160" y="4508640"/>
            <a:chExt cx="2648160" cy="459720"/>
          </a:xfrm>
        </p:grpSpPr>
        <p:graphicFrame>
          <p:nvGraphicFramePr>
            <p:cNvPr id="117" name=""/>
            <p:cNvGraphicFramePr/>
            <p:nvPr/>
          </p:nvGraphicFramePr>
          <p:xfrm>
            <a:off x="938160" y="4584960"/>
            <a:ext cx="360000" cy="34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8160" y="4584960"/>
                      <a:ext cx="36000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38400" y="450864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s_fr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1316160" y="3125880"/>
          <a:ext cx="360360" cy="24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6160" y="3125880"/>
                    <a:ext cx="3603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97080" y="2736720"/>
          <a:ext cx="36036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7080" y="2736720"/>
                    <a:ext cx="3603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905120" y="2606760"/>
            <a:ext cx="12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_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7176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9720" y="3540240"/>
            <a:ext cx="3434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brain  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mbomere 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9000" y="1504800"/>
            <a:ext cx="394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glion 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nial ganglion  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eminal ganglion  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al ganglion  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6480" y="5432400"/>
            <a:ext cx="2861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plate  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tube 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cord  4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64640" y="10684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37640" y="497664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s_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9600" y="3098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3280" y="195120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iological intuition sugge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609480"/>
            <a:ext cx="7407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do we need CA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acilitate cross-species queries, for example, similar phenotypes or gene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MODs build anatomy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better curation and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mote better data-mining within and between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 species-specific anatomy, cellular and sub-cellular anatomy, processes, functions, stages,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528480"/>
            <a:ext cx="73915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s of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Are the relationships is_a, part_of, and develops_ from sufficient for our needs?  Develops_from has not yet been finalized in OBO-REL. What other relationships are requir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How should the MODs and/or CARO integrate the three ontological granularities of anatomy represented thus f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e human foundational model of anatomy (FMA) is a structural ontology which offers many advantages.  Can CARO integrate the functional, spatial, developmental, and staged anatom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How many stage relationships are needed?  How should they be defined? How will they be us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How organismally diverse should CARO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How deep should CARO b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3840" y="617076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NEED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76320"/>
            <a:ext cx="81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organism databases (MODs) use anatomy ontologies for an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9740" t="-381" r="0" b="66045"/>
          <a:stretch/>
        </p:blipFill>
        <p:spPr>
          <a:xfrm>
            <a:off x="457200" y="4800600"/>
            <a:ext cx="284940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502920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x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forelimb bud and som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7480" y="60944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ouzelstein et.al, 19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7560" y="2590920"/>
            <a:ext cx="2667240" cy="1992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290520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x2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brain hindbrain boundary and pronephric 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8200" y="423396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se et.al,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68800" y="400860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gmentation stage: 20-25 so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2040" y="125748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05320" y="114300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tracheal system, lateral cor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72400" y="190980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ges: 13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10000" y="216684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ger et al., 1988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72400" y="57610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ge: 29 so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34960" y="91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9160" y="228456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braf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2720" y="4532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429000" y="1066680"/>
            <a:ext cx="5029200" cy="4800600"/>
            <a:chOff x="3429000" y="1066680"/>
            <a:chExt cx="5029200" cy="4800600"/>
          </a:xfrm>
        </p:grpSpPr>
        <p:sp>
          <p:nvSpPr>
            <p:cNvPr id="63" name=""/>
            <p:cNvSpPr/>
            <p:nvPr/>
          </p:nvSpPr>
          <p:spPr>
            <a:xfrm>
              <a:off x="6019920" y="1066680"/>
              <a:ext cx="2438280" cy="609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1447920"/>
              <a:ext cx="190512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5320" y="3276720"/>
              <a:ext cx="4038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72200" y="4952880"/>
              <a:ext cx="1828800" cy="609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14800" y="5334120"/>
              <a:ext cx="121932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581280"/>
              <a:ext cx="243828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87360" y="30492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do MODs use anatomy ontologies vs. a simple constrained vocabul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ies facilitate grouping of annot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6520" y="2133720"/>
            <a:ext cx="3443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indbr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hombom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510552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MODs construct their anatomy ontologies using the same principles they will be better able to reason across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1280" y="3733920"/>
            <a:ext cx="506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brain without ontology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brain with ontology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52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developmental anatomy ontologies have multiple axes of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8720" y="1066680"/>
            <a:ext cx="724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unction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diovascular system, nervou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pat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ad, trunk, 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ment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oderm, germ ring, lens pla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ructur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ssue, organ, cel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mental staging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048120"/>
            <a:ext cx="7864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are often arranged spatially or by function for ease of browsing or edi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al terms are often lumped together for lack of a way to categoriz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are represented in a variety of ways. Terms can be children of superstages, stages can be integrated into each term, or stages can be assigned to terms from a separate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1720" y="617220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can CARO unify this organ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634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relationships are being used in developmental anatomy ontolog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27160" y="2228760"/>
            <a:ext cx="687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_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lassification of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t_of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ical anatomical par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s_fro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one to one, one to many, or many to one relationship describing the temporal lineage of anato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MODs have built their anatomy ontologies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127" t="7917" r="67713" b="27948"/>
          <a:stretch/>
        </p:blipFill>
        <p:spPr>
          <a:xfrm>
            <a:off x="152280" y="1828800"/>
            <a:ext cx="2635200" cy="395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rcRect l="1043" t="7768" r="66670" b="7856"/>
          <a:stretch/>
        </p:blipFill>
        <p:spPr>
          <a:xfrm>
            <a:off x="6337440" y="1600200"/>
            <a:ext cx="2730240" cy="520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rcRect l="1043" t="7741" r="60420" b="18573"/>
          <a:stretch/>
        </p:blipFill>
        <p:spPr>
          <a:xfrm>
            <a:off x="2913120" y="1828800"/>
            <a:ext cx="3259080" cy="45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821880" y="137016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5440" y="1141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0480" y="1335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ruit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006560" y="1938240"/>
            <a:ext cx="3045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20120" y="3657600"/>
            <a:ext cx="3045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266720" y="2633400"/>
            <a:ext cx="30492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86200"/>
            <a:ext cx="9144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0520" y="2335320"/>
            <a:ext cx="9144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4495680"/>
            <a:ext cx="144792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8560" y="228600"/>
            <a:ext cx="80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different levels of anatomical gran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8380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ross-species subcellular anatomy (GO 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8380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ross-species cellular anatomy (C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84960" y="838080"/>
            <a:ext cx="23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ecies-specific gross anatomy (ZF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249" t="26627" r="73126" b="43512"/>
          <a:stretch/>
        </p:blipFill>
        <p:spPr>
          <a:xfrm>
            <a:off x="316080" y="1981080"/>
            <a:ext cx="250344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rcRect l="11249" t="26450" r="69412" b="41985"/>
          <a:stretch/>
        </p:blipFill>
        <p:spPr>
          <a:xfrm>
            <a:off x="3137040" y="1941480"/>
            <a:ext cx="2898720" cy="346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rcRect l="11249" t="26450" r="72503" b="38575"/>
          <a:stretch/>
        </p:blipFill>
        <p:spPr>
          <a:xfrm>
            <a:off x="6276960" y="1981080"/>
            <a:ext cx="251136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991080" y="6095880"/>
            <a:ext cx="71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CARO integrate these anatomy ontolo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9880" y="32767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may have defining morphological characteristics or be fia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8240" y="380880"/>
            <a:ext cx="57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developmental st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046320" cy="506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640080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fter Haeckel, from Romanes, 19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143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different staging series for different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http://zfin.org/zf_info/images/high_res_sketches/09h.gif"/>
          <p:cNvPicPr/>
          <p:nvPr/>
        </p:nvPicPr>
        <p:blipFill>
          <a:blip r:embed="rId2"/>
          <a:stretch/>
        </p:blipFill>
        <p:spPr>
          <a:xfrm>
            <a:off x="5362560" y="4448160"/>
            <a:ext cx="1647720" cy="164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67800" y="617220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Zebrafish bud stage; 10 – 10.3 h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096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ge represents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380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can stages be represented in a developmental anatomy ontolo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61960" y="1676520"/>
            <a:ext cx="26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A (1-2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B (2-3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C (3-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352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natomical structure has a stage range during which it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3480" y="4535640"/>
            <a:ext cx="463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ical structure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s during stag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pparent until stag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21:11:51Z</dcterms:created>
  <dc:creator>Community Network</dc:creator>
  <dc:description/>
  <dc:language>en-US</dc:language>
  <cp:lastModifiedBy>zfin user</cp:lastModifiedBy>
  <dcterms:modified xsi:type="dcterms:W3CDTF">2006-09-08T15:31:11Z</dcterms:modified>
  <cp:revision>47</cp:revision>
  <dc:subject/>
  <dc:title>PowerPoint Presentation</dc:title>
</cp:coreProperties>
</file>